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DEE3-DF61-4FBF-95A2-926978ECF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8C1D-B327-4143-B2CE-CF1EC685D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43D6-9A4B-4AA1-8958-58DEB427C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9C98-A90F-404E-A892-3E29D1D31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84DA1-E904-4466-886D-79888BD79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81CC3-3512-46B4-9B4C-C46FAB806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91FC7-43BE-4B06-807A-CBD268518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70969-A71C-4A7B-907E-8E848B45A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6C4EF-F1C9-401C-AD22-174A63709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F0AF6-57A3-4043-AF43-7557A51FC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0D98D-25C3-4FE7-9B2F-A98DF8805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DD76-509B-49C5-AB60-680E600BF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CD25F-6D6E-4884-AAF3-28497D2F1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B0CF4-7688-428A-8669-BB63CB743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46C09-9F82-491D-8E50-CE57E9265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83D4D-9AD5-45C5-A0DC-A2A180A8C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556BE-6D67-4809-B024-E98A63C72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8197-07F8-45A5-ADA2-EF824E0E4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0161-B5FA-4F33-93BF-2D536D7F6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D255-9AA6-4E52-9FB5-FD14D7B53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407C-7E17-40E0-A7E8-93591A0BF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C3A0-6ACF-436C-B186-CB8C1B51F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1101-1E75-4AC1-82D1-15B68EF60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E97C-61E9-44AA-9A94-0ABA36C1A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E13C7-5041-47FC-B3B3-F624218F68E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46042-0DAC-4A28-B020-4C33BDC3B0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33344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003A0-8E7F-4B4B-B2CC-5FC3DBB9F16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CF8AC-DB8B-4B7E-90F9-ACD82CC4B8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TSI and Lawful Interception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6822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bin Gap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ir TC Sec WG 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7BE77-0013-4CA2-8CBF-D4BCB8E33C2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P Re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scribes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ructures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mon underst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ay point to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C912-4299-4832-8300-69CF944A0A2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ata Hand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2560" y="2057400"/>
          <a:ext cx="7772400" cy="4397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2560" y="2057400"/>
                    <a:ext cx="7772400" cy="43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F6DA-8E09-413A-AC26-B48B2C886AF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standardi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rket avail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w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eed to 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w hass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F346-02A8-4E71-85CA-1F469AA7C85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layers in ET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per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M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gulators &amp; Minis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w Enforcement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FA20-48F9-4474-B9A9-533C7793B74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is ETSI doing for dat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M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IPH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cludes v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rket dr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3043-B0EC-4840-ACF3-9D634614EAF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ere is the market go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ll steam a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re the demand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and mor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tail not cl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rowth will contin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5E4B-8562-401F-A2D7-4F45CA80361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Fu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ET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opt ETSI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ap, for every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rocious pace of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ry hard to s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C40B-DCB2-4C20-BFF1-0E46763DE6C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re inf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b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ww.etsi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ub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ttp://webapp.etsi.org/pda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G 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ttp://www.etsi.org/SEC/sec_li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1398-A0BD-4670-8686-F45B7EB0B41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bout ET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uropean Telecommunications Standards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“standards factor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rket dri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road industry par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uropean and Global p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478D-3903-4213-B394-06D616CAE2B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STN Achiev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chnical Handover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 201 671 v1 19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 201 671 v2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lus supporting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A Requirements (ETR 33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twork Elements (ES 201 15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3BC0-2964-417C-9116-2C757FDCCE9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 Major Suc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ted with 17th January 1995 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lled out” LEA requirements 19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twork elements 19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ndover Interface 19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vised Handover Interface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30F6-6C15-46CB-BFE7-287116295DC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ructure of Hand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cept related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tent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ecifies the boundary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897D-671B-453A-9F37-10EFDE767C1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500880" y="5829480"/>
            <a:ext cx="2119320" cy="84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944800" y="1219320"/>
          <a:ext cx="6192720" cy="5452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44800" y="1219320"/>
                    <a:ext cx="6192720" cy="54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430200" y="3967200"/>
            <a:ext cx="2286000" cy="243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P = Access provi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I = Handover interface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IF = internal intercepting function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I = internal network interface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EMF = Law enforcement monitoring facility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F = Mediation function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WO = Network operator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vP = Service provi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CF2B-C801-406A-B8CF-4B4BF7C489E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doption of ES 201 67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uropean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rld-w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7E59-8756-4A95-A046-853E9BC6982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b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S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S 101 5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SM Inter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S 101 509 (03.3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so TE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 301 0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8BC4-005E-4461-85A7-B49FD7B6CFB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ata Achiev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PRS Handover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 101 8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 201 671 v2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PRS Inter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ex B of TS 101 5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port “Issues on IP Intercep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 101 9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DD20-18B5-4085-95BC-894E42FFDF6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2T15:55:13Z</dcterms:created>
  <dc:creator>Sonia Coleman</dc:creator>
  <dc:description/>
  <dc:language>en-US</dc:language>
  <cp:lastModifiedBy>infosys</cp:lastModifiedBy>
  <dcterms:modified xsi:type="dcterms:W3CDTF">2001-06-04T05:58:49Z</dcterms:modified>
  <cp:revision>6</cp:revision>
  <dc:subject/>
  <dc:title>Title</dc:title>
</cp:coreProperties>
</file>